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874DC-08FA-4BA9-82D3-401F5ADA07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not Dynamic: With pull down, overlaps With pull up, dead space during precharge. Probably more p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rst m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oder: we only use one 1 Row decoder to save space, unlike the text boo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book has one row decoder per blo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vantages, less decoders =&gt; cut down in space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dvantages =&gt; each decoders will have more load but had logics to choose which bank of WL to charge 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iginal plan to expand this for burst m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decoders are for Read (Column, Bank) Write (Column, Ban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2" marL="9144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e chose to use an unsual addressing scheme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ince our caches 8kbytes in size, it means 11 bits for addressing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e used the first bit… blah blah…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is means that instead of reading in blocks, we read across all our 16 blocks. After reading 2 words, instead of going to the next row to read the next word we would go to the next block to read the next wor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reason for this addressing scheme was to implement our special feature called Burst Mod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urst Mode would allow us to read multiple words in one cycle. Burst mode is built around the idea of spatial locality where when reading one data there is a very high chance of reading the next few words. Our addressing scheme would allow parallel reading of word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o achieve this we used these decodes…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owever, Burst mode meant more complex logic. Unfortunately, we haven’t gotten to implement in testing because of time constraint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che 8kBytes, 2 words per column in a bank, 16 banks, 64 rows =&gt; 1 column, 4 bank, 6 row decod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address progresses horizontally unlike usu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tended to work for  Burst Mo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ading not only one words but multiple words in parallel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 words Burst Mo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patial Locali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igger Output Bus, logics to choose banks and W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d not have enough tim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069D2-336C-4691-AF23-E2142ACAD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8DDB5-EC0A-4D78-995B-74B053740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1E042-528E-437E-877F-605591E91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90E58-8BCD-49CA-B0C1-BF710519C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EB08F-7720-41E0-9225-54FF563DB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D2691-87F4-4C7D-84E2-C2CC2F5CA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1B78E-77F4-406C-B920-2A64F9EB4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3CC8C-27F8-4DAE-A7AB-C20AC0C69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A80A8-C1C3-4249-9925-40AF199C0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FA613-4457-441E-9A61-D3C29ACD7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4251D-30C2-43C5-88D9-478431801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AC21C-5EDE-4134-A150-7DFB7B5F4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A6420-F5D3-489C-9688-F91EB93B3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64DF3-46FC-4E8B-BD63-7ADA71F60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6C5F6-3D42-4FA9-A7E5-4B244F346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F9077-A074-46C6-A848-C85967F8E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C05A6-C597-4AA2-8CCF-DE9FE8DFC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CA323-DD7E-4184-8413-AE8B2AAAC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6489C-1CB3-4AC0-902F-B0457A0B3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6BEE8-E1C1-4AA8-A731-A13E4FFAF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5A511-C592-4E0D-9394-57832C2FF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A8A60-C797-4054-84D3-B717BD4E1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99AF3-F7B4-47B4-97B4-8AB680ED4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C63B1-63E7-4BAF-8D68-A62F511F8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D7373-CBD7-4088-8832-C5765F154B3C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9D4B3-7FF5-4935-897A-AF1EFEE68A95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High Speed Cache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CE 432 Group 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aron Albi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Jisoon Ki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iwamu Sat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Bitcell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040" y="1980720"/>
            <a:ext cx="61722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ide Cell Bitcel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dvantage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ess Vari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ise Margi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tatic: 1.58V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ad : 0.76V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rite : 1.6V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6.35 X 7.2 u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5872320" y="1981080"/>
          <a:ext cx="1779480" cy="198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72320" y="1981080"/>
                    <a:ext cx="1779480" cy="19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2" name=""/>
          <p:cNvGraphicFramePr/>
          <p:nvPr/>
        </p:nvGraphicFramePr>
        <p:xfrm>
          <a:off x="3657600" y="2590920"/>
          <a:ext cx="5335560" cy="3597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57600" y="2590920"/>
                    <a:ext cx="5335560" cy="359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Peripheral Circuitry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14400" y="1828440"/>
            <a:ext cx="76960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cod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sed static CM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elay of 6-64 decoder: 3.14 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ux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sed transmission gat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elay of 16-1 Mux: 2.81 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ulse generator for WL and S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o decrease power consumption, by the WL and BL BLB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o ensure WL is not high during pre-charge tim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Block Addressing Schem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1 bits Address. 0 for column, 1-4 for bank address and 5-10 for the row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llows for Burst Mod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 Column and 2 Bank Decoders for read and write, 1 row decod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990720" y="4343400"/>
            <a:ext cx="7238880" cy="23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Simulation Result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rea of SRAM: 6.5mm X 2.5mm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0.7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</a:rPr>
              <a:t> .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</a:rPr>
              <a:t>6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um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20.7mm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tal Power: 669.8 mW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tal Delay: 6.8 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ad Delay: 6.8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rite Delay: 6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echarge Delay 4.4 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otal Cycle 11 ns  91MHz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etric = 6.411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 .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8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W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 .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s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2 .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icron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380880" y="533520"/>
            <a:ext cx="8610840" cy="5740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 rot="1920000">
            <a:off x="2285640" y="3048120"/>
            <a:ext cx="2057400" cy="8380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723920" y="838080"/>
            <a:ext cx="1219320" cy="160020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914400" y="3276360"/>
            <a:ext cx="121932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Improvement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ther Types of Faster Decod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yon Schediwy Decoder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d Mux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urst Mod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4267080" y="2209680"/>
            <a:ext cx="4876920" cy="36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1T20:18:02Z</dcterms:created>
  <dc:creator>aaron albin</dc:creator>
  <dc:description/>
  <dc:language>en-US</dc:language>
  <cp:lastModifiedBy>aaron albin</cp:lastModifiedBy>
  <dcterms:modified xsi:type="dcterms:W3CDTF">2007-12-06T04:26:06Z</dcterms:modified>
  <cp:revision>5</cp:revision>
  <dc:subject/>
  <dc:title>High Speed Cache </dc:title>
</cp:coreProperties>
</file>